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8D5-1606-4803-95DC-82F22EAD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F72-AF6B-4587-9651-B8ADA879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39D-E3A9-4A7D-9880-CA684272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98F-8C2D-4339-8875-018A8874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5BCF-F982-4615-88CD-F79840BD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2DE1-5DD0-47F0-9995-92C346D4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CEC1-C9AA-4527-9E83-E2F1E474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5A58-0F22-4623-A25B-A42AC5BC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00C6-57F6-4167-98D8-5E396F56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2ED6-F664-4C68-9807-88F6B90E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BEE4-6E02-4AEB-B581-33DF687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BC0-96EF-415F-8462-DE28B8E5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1660-FA24-4EE8-BF00-30A4E2DB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DA4A-8AC2-4977-8DEA-AD3DFC2E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A8F4-8D13-4C87-8A8A-E0CA27D6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95F2-11B4-42FF-8FDC-CE4482CC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7173-162C-4C86-A156-2B5D8DE0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BBC-0423-4162-B594-3EEB0099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7C9-0F74-44B5-A323-5BB8C5AE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53A-88A6-4E3A-8FC8-FEF7431E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503-1603-40CF-8D08-29FD662F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F28-E292-4394-9111-D755CF6D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B10-7DDE-478B-87C3-AFFF455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B2C-6AE7-4265-A812-BE50D2DC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6628-750C-4FB5-84ED-BCB9DE265D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692E-E2EC-4127-9851-F584EAAFB5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Joshua 13-19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3, Lesson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gs.36-4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Days of The Jud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223920"/>
            <a:ext cx="8686800" cy="663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1371600"/>
            <a:ext cx="1524240" cy="3657600"/>
          </a:xfrm>
          <a:prstGeom prst="ellipse">
            <a:avLst/>
          </a:prstGeom>
          <a:gradFill rotWithShape="0">
            <a:gsLst>
              <a:gs pos="0">
                <a:srgbClr val="175e5e">
                  <a:alpha val="0"/>
                </a:srgbClr>
              </a:gs>
              <a:gs pos="100000">
                <a:srgbClr val="33cccc">
                  <a:alpha val="0"/>
                </a:srgbClr>
              </a:gs>
            </a:gsLst>
            <a:lin ang="135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553080" y="1523880"/>
            <a:ext cx="1524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re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Ou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ud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46512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334120" y="1600200"/>
            <a:ext cx="3324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Divi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The La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ccording 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ibal Siz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57400" y="2895480"/>
            <a:ext cx="32767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114800" y="1169640"/>
            <a:ext cx="4495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ivision of the Land of Canaan (13:7 to 24:33)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. Possession of the land East of Jordan (13:7-33) 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Total territory East of Jordan (13:7-14)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Portion divided to Reuben (13:15-23)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Portion divided to Gad (13:24-28)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 Portion divided to the half tribe of Manasseh (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886200" cy="543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95480" y="1828800"/>
            <a:ext cx="914400" cy="3733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191120" y="999720"/>
            <a:ext cx="44956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ssession West of the Jordan (14:1 to 19:51) 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Levites given no land, save cities to live in (14:1-5) See Joshua 18: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 Division to Judah and Caleb (14:6 to 15:63)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. Inheritance of Joseph (Manasseh and Ephraim (16:1 to 17:18)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. Israel moves to Shiloh and set up the tabernacle (18:1)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5. Twenty-one men, three from each tribe, describe the land (18:2-9)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6. Land divided by lot among the remaining seven tribes (18:10 to 19:48)  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886200" cy="543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1219320"/>
            <a:ext cx="1371600" cy="419076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371600" y="533520"/>
            <a:ext cx="6448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rthern Most City of 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971800" y="228600"/>
            <a:ext cx="1200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hilo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9320" y="5257800"/>
            <a:ext cx="4486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in Campgrou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Tabernacl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57200"/>
            <a:ext cx="2210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n the whole congregation of the sons of Israel assembled themselves at Shiloh, and set up the tent of meeting there; and the land was subdued before them. (Joshua 18: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04920" y="380880"/>
          <a:ext cx="8610480" cy="6172200"/>
        </p:xfrm>
        <a:graphic>
          <a:graphicData uri="http://schemas.openxmlformats.org/drawingml/2006/table">
            <a:tbl>
              <a:tblPr/>
              <a:tblGrid>
                <a:gridCol w="947520"/>
                <a:gridCol w="3014640"/>
                <a:gridCol w="2581560"/>
                <a:gridCol w="2066760"/>
              </a:tblGrid>
              <a:tr h="914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ritannic"/>
                          <a:ea typeface="Times New Roman"/>
                        </a:rPr>
                        <a:t>The Distribution of the L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Desdemona"/>
                          <a:ea typeface="Times New Roman"/>
                        </a:rPr>
                        <a:t>Special Allot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st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: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wo &amp; a half Trib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e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atura MT Script Capitals"/>
                          <a:ea typeface="Times New Roman"/>
                        </a:rPr>
                        <a:t>West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da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cccc"/>
                          </a:solidFill>
                          <a:latin typeface="Desdemona"/>
                          <a:ea typeface="Times New Roman"/>
                        </a:rPr>
                        <a:t>Major Allotments to the 9 ½ Tri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Sons of Josep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maining 7 Trib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ties of Refu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Desdemona"/>
                          <a:ea typeface="Times New Roman"/>
                        </a:rPr>
                        <a:t>Special Provis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oth Sides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: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mmary Stat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4267080" y="1295280"/>
            <a:ext cx="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124080"/>
            <a:ext cx="0" cy="167652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48769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715000" y="228600"/>
            <a:ext cx="2990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as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moth-Gilea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ze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5880" y="3124080"/>
            <a:ext cx="2314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s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odesh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chem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br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0:49Z</dcterms:created>
  <dc:creator>Terry W. Benton</dc:creator>
  <dc:description/>
  <dc:language>en-US</dc:language>
  <cp:lastModifiedBy>Terry W. Benton</cp:lastModifiedBy>
  <dcterms:modified xsi:type="dcterms:W3CDTF">2005-01-11T18:52:02Z</dcterms:modified>
  <cp:revision>6</cp:revision>
  <dc:subject/>
  <dc:title>Joshua 13-19 </dc:title>
</cp:coreProperties>
</file>